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3B8-29E3-4B15-AABB-184CEC8A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119-A400-4FB6-8884-5FF8D9E4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3A1-0B61-4630-A19F-74261823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A79-544A-4879-AF76-BD4CB686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D4E-AB8E-4D5D-B11C-B03C2981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172-AF59-458C-8598-83F0434B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5BA-B856-4F1D-B050-CA7575F3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EE4-8DAD-4144-8443-201DB74B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513-7F40-4A79-BCE4-C6B2975E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751-7A4B-4AE2-B81C-6F8E4AB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9EE-7DE0-4208-BECD-A774F1BD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95E-4010-4543-9E98-6B1BD6A0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70ED6-EC05-4C6D-8482-B9ED8C0E52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3D4B5-3312-4C7F-8B4F-EF360AF17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04480"/>
            <a:ext cx="77724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etting At the Trut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Use logic to draw conclusions concerning Jeanie's day of causing trou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anie was overheard talking to Betty about Samanth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If she's not wearing jeans, she's just not happy.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just so happens that Samantha was very happy that day and she did happen to have jeans 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Jeanie telling the truth? Support your answer with logic. Use symbolism to simplify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was overheard talking to Betty about Samanth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If she's not wearing jeans, she's just not happy.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just so happens that Samantha was very happy that day and she did happen to have jeans 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s Jeanie telling the truth? Support your answer with logic. Use symbolism to simplify your answ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 = wearing jeans q = happy Jeanie said ~p=&gt;~q In this case p is true and q is true, so Jeanie told the tru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anie then turned around and told Gloria that Betty had been talking about Samantha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said, "If I am a gossip, then Betty must be three times worse!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ll know Jeanie is a gossip and this time she was telling the truth, so what else can we conclu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then turned around and told Gloria that Betty had been talking about Samantha!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said, "If I am a gossip, then Betty must be three times worse!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all know Jeanie is a gossip and this time she was telling the truth, so what else can we conclu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 = Jeanie is a gossip. q = Betty is three times worse. Jeanie said p=&gt;q which we are told is true and that p is true as well. So we can conclude Betty is three times wor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loria told Jeanie that Samantha had borrowed Betty's jeans to wear that day. Jeanie was relieved that she had not told Betty that she didn't like the jea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eanie did tell Gloria however, "If Samantha asks me to borrow my jeans then I am going to tell her to forget it!"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thin moments Samantha walks up to the girls and asks Jeanie if she can borrow some jeans from her to wear to the party Friday nigh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eanie said, "Sure!"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can we conclude about Jeanie, other than the fact that she is a habitual gossiper and backstabbe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52440"/>
            <a:ext cx="8229600" cy="61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ria told Jeanie that Samantha had borrowed Betty's jeans to wear that day. Jeanie was relieved that she had not told Betty that she didn't like the je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anie did tell Gloria however, "If Samantha asks me to borrow my jeans then I am going to tell her to forget it!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moments Samantha walks up to the girls and asks Jeanie if she can borrow some jeans from her to wear to the party Friday n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anie said, "Sure!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can we conclude about Jeanie, other than the fact that she is a habitual gossiper and backstabb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 = Samantha asks to borrow my jeans. q = I am going to tell her to forget it. Jeanie says p=&gt;q. We know p is true and q is false. So we can conclude that Jeanie lied since she made a false stat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antha also asked Jeanie what she thought of the jeans she was wear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replied, "I love them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antha said, "Are you sure?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Well of course.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Please tell the truth," Samantha plead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then said, "I will tell the truth if and only if you lend me that shirt to wear to the party.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anie went on to assure her that the jeans were great, which was an outright lie. Is there anything Samantha can do to make Jeanie's last statement tru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524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antha also asked Jeanie what she thought of the jeans she was wear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ie replied, "I love them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antha said, "Are you sure?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ell of course.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Please tell the truth," Samantha plead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ie then said, "I will tell the truth if and only if you lend me that shirt to wear to the party.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ie went on to assure her that the jeans were great, which was an outright lie. Is there anything Samantha can do to make Jeanie's last statement tru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 = Jeanie will tell the truth. q = Samantha lends Jeanie the shirt for the party. Jeanie basically says p&lt;=&gt;q. Jeanie lies, so p is false.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refore the only thing Samantha can do to redeem Jeanie is to not lend her the shirt.  Then Jeanie's statement would still be tr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7342200" y="64882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1:41:31Z</dcterms:created>
  <dc:creator>Salem High School</dc:creator>
  <dc:description/>
  <dc:language>en-US</dc:language>
  <cp:lastModifiedBy>Salem High School</cp:lastModifiedBy>
  <dcterms:modified xsi:type="dcterms:W3CDTF">2011-09-26T12:18:08Z</dcterms:modified>
  <cp:revision>6</cp:revision>
  <dc:subject/>
  <dc:title>Getting At the Truth </dc:title>
</cp:coreProperties>
</file>